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21.xml.rels" ContentType="application/vnd.openxmlformats-package.relationships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494C3-0BD9-4072-9DC6-CAA2496091C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F4CCD-3B99-48F8-886E-8958C5064E5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9F4AD-9599-4C0A-A5FA-AB065E8E34E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3A1D5-C6B7-4665-AAFF-5D4AB5A26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8F6E9-6A7E-4048-8F5D-E0912A6C0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C61CA-1C05-4F1B-896F-1D55D520F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90789-D6B5-4889-8BA1-EBD05C772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1EFB0-857F-4E58-8269-48FD45135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863FC-B771-4CC9-B84E-75BD6251A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F112A-975B-4906-A963-0BA482AC1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CFA5F-EB8C-4279-BCC2-F77B3F3B7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FFEC8-D552-4B49-80E3-7BAC265E1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174CB-366E-4A32-BC7E-972C3A818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C48E0-27A9-42C7-BC90-9696F4484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68593-5EAB-41F8-962D-E024E81D3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BEC12-624D-4BB0-B5BE-82400F8B0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18E1A-3AB5-4E66-9724-CA984977E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2B8B2-480D-49A9-99BA-AF148BAF9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FE27E-5E9F-415A-B60A-CA98CE016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D63A5-12DF-4A51-8EF2-BD8DA6019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17F729-B460-4EC6-B930-B05763381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DCACBE-9D86-41F5-AE6F-C7F12BDA3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CF370E-C53E-47A2-B2F9-B182B927E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6843EC-0E45-4D29-ABB0-B5AAEE61E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A7CFCB-840B-4738-A2B5-C68548CCC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34BB8-F66E-449F-A9EC-42AA80E92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0AF0EF-7985-47B1-B85F-DE974E75C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B67128-F282-4B11-AEB5-87292D8C3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D2962D-36D6-4F7A-B602-C44118DCF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5C8253-0FBF-43FB-97BF-1902BBB11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84ED81-8E64-4ECD-B1F8-84CF7E799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AE9EFD-8BFD-4B30-A289-9161B614D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4C1BDA-8C7C-413F-846B-92C52E4A3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63F404-E142-4D86-BD10-4AAEAF2B9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5E67FB-39DF-4D23-BFAE-7220E42C6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20AA7A-E51E-4A86-897B-EAF6AE4AE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37F4D-00C7-41F3-9809-C2B8881DC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D25EB8-C184-4252-9023-6C2010B1C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21B6E2-2051-40A2-9C4A-18FAD0673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5A2293-6530-44DB-904A-46F2B02D9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F8CDA9-441B-4270-806E-AEE6DB977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7E1077-279E-4D46-948A-21249FA3A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20AA45-0132-451F-8D75-CB1F36795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031739-F08C-4877-B615-70786BA99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39A605-932C-4952-B6DD-ACC867BA8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9402B4-C190-4962-8289-3B8BBDE75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D8EDA0-720F-423A-8041-FE65E3538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72D09-3FC1-43B0-8F29-CCCBA17DA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C4D623-D1DC-4A76-8CB1-3CB8DC95F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FB6444-C325-4452-B732-454ECE741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AF123E-D62C-406D-BBC1-6B5F36978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8DBBC8-722F-428C-9002-B9C5048A4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74285A-B257-4AA8-926A-C6A563D71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8F1D62-B604-4E72-8B76-2FE5E1938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DEA06D-461D-45C9-BA9C-813E6301A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278576-591D-4A57-A827-772BDB8BF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0ADB31-4513-4341-87C0-A4B9F4C2D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1CE9EF-C567-49C8-9711-94021FFC9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BB7EA-A912-4706-BB9C-9766436BD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9E266D-312B-4CB7-A085-FBD8C3925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C2F7A-20E3-4415-A552-1866BA025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37A7C-72A2-42F8-939D-3CAA42E06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661C8-51E8-4A57-AFEE-8C0BD7849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7AF7D-2A2B-4072-A670-CE8829D3F4D4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74C4C-FA99-43B2-9568-E65B58A4B0A8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1A235-D2FD-48AC-AA6F-DDE93B984FA6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73A1A-0F1A-47E2-9417-882E78D97A83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9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9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0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>
            <a:off x="5331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4"/>
          </p:nvPr>
        </p:nvSpPr>
        <p:spPr>
          <a:xfrm>
            <a:off x="29714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В.А.Власенко,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5"/>
          </p:nvPr>
        </p:nvSpPr>
        <p:spPr>
          <a:xfrm>
            <a:off x="6400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EA4BE-5533-4ACF-A09A-8378FDE96EEF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68360" y="1413000"/>
            <a:ext cx="8229600" cy="2363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Возможности физической культуры как средства повышения моральной и психологической устойчивости  к экзаменационным испытаниям</a:t>
            </a:r>
            <a:br>
              <a:rPr sz="4000"/>
            </a:br>
            <a:r>
              <a:rPr b="1" lang="en-US" sz="18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ИЗ ОПЫТА РАБОТЫ ПО ПРИМЕНЕНИЮ ФОРМИРУЮЩЕГО ОЦЕНИВАНИЯ)</a:t>
            </a:r>
            <a:endParaRPr b="0" lang="en-US" sz="1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57200" y="47970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1000"/>
          </a:bodyPr>
          <a:p>
            <a:pPr marL="111600" indent="-111600" algn="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Мутагарова Люция Рифовна,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111600" indent="-111600" algn="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учитель физической культуры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111600" indent="-111600" algn="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МАОУ «Гимназия № 33» г. Перми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Формирующее оценивание.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Цель формирующей оценки - способствовать улучшению результатов каждого отдельно взятого ученика</a:t>
            </a:r>
            <a:r>
              <a:rPr b="0" lang="ru-RU" sz="48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Цели и ожидаемые результаты формирующего оценивания: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352440" y="1339920"/>
          <a:ext cx="8510400" cy="5227560"/>
        </p:xfrm>
        <a:graphic>
          <a:graphicData uri="http://schemas.openxmlformats.org/drawingml/2006/table">
            <a:tbl>
              <a:tblPr/>
              <a:tblGrid>
                <a:gridCol w="3003480"/>
                <a:gridCol w="5506920"/>
              </a:tblGrid>
              <a:tr h="13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ценить потребности ученик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туализация знаний по теме, субъектного опы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зов интереса к тем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отвращение неправильного понимания вопрос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6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ощрить саморегуляцию и сотрудничеств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ценивание навыков к самостоятельной работе и сотрудничеству для использования разнообразных ресурсов и инструмент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2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уществить мониторинг прогресс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явление и самоопределение учащимися слабых сторон, подтверждение сильных и обеспечение более глубокого поним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6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рить понимание и поощрить метапозн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особствует применению знаний в новой ситуации, обобщению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1773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Ebrima"/>
              </a:rPr>
              <a:t>Что такое формирующее оценивание или оценивание для обучения?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914400" y="2428920"/>
            <a:ext cx="7772400" cy="39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Оценивание это больше, чем маркировка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Оценивание — это обратная связь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Оценивание направляет учение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14875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Формирующее оценивание для </a:t>
            </a:r>
            <a:r>
              <a:rPr b="0" lang="ru-RU" sz="45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обучающихся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914400" y="2214360"/>
            <a:ext cx="7772400" cy="41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799"/>
              </a:spcBef>
              <a:buClr>
                <a:srgbClr val="b5edfd"/>
              </a:buClr>
              <a:buSzPct val="9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ет помогать учиться на ошибках;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99"/>
              </a:spcBef>
              <a:buClr>
                <a:srgbClr val="b5edfd"/>
              </a:buClr>
              <a:buSzPct val="9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ет помогать понять, что важно;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99"/>
              </a:spcBef>
              <a:buClr>
                <a:srgbClr val="b5edfd"/>
              </a:buClr>
              <a:buSzPct val="9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ет помогать понять, что у них получается;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99"/>
              </a:spcBef>
              <a:buClr>
                <a:srgbClr val="b5edfd"/>
              </a:buClr>
              <a:buSzPct val="9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ет помогать обнаруживать, что они не знают;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99"/>
              </a:spcBef>
              <a:buClr>
                <a:srgbClr val="b5edfd"/>
              </a:buClr>
              <a:buSzPct val="9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ет помогать обнаруживать, что они не умеют делать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914400" y="512280"/>
            <a:ext cx="7772400" cy="1559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Формирующее оценивание позволяет </a:t>
            </a:r>
            <a:r>
              <a:rPr b="0" lang="ru-RU" sz="45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учителю</a:t>
            </a:r>
            <a:r>
              <a:rPr b="0" lang="ru-RU" sz="4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914400" y="2285640"/>
            <a:ext cx="7772400" cy="40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799"/>
              </a:spcBef>
              <a:buClr>
                <a:srgbClr val="b5edfd"/>
              </a:buClr>
              <a:buSzPct val="9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тко сформулировать образовательный результат, подлежащий формированию и оценке в каждом конкретном случае, и организовать в соответствии с этим свою работу;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99"/>
              </a:spcBef>
              <a:buClr>
                <a:srgbClr val="b5edfd"/>
              </a:buClr>
              <a:buSzPct val="9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делать учащегося субъектом образовательной и оценочной деятельности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1416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ехнологии формирующего оценивания: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ни (минутный) обзор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ни-обзор (проводится в конце урока)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Что изучали? Назовите тему урока.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С какими заданиями ты справлялся без помощи учителя, одноклассника?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Определите наиболее важное в этом уроке.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Что вызвало трудности, осталось неясным?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Что хотелось бы узнать по теме дополнительно?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Что у меня получилось лучше всего?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Что мне необходимо усовершенствовать?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9528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4617b"/>
                </a:solidFill>
                <a:latin typeface="Calibri"/>
              </a:rPr>
              <a:t>Тема урока</a:t>
            </a:r>
            <a:r>
              <a:rPr b="0" lang="ru-RU" sz="2400" spc="-1" strike="noStrike">
                <a:solidFill>
                  <a:srgbClr val="04617b"/>
                </a:solidFill>
                <a:latin typeface="Calibri"/>
              </a:rPr>
              <a:t>  Развитие силовых качеств. Подготовка к сдаче норм ГТО испытания «Сгибание-разгибание рук в упоре лежа» </a:t>
            </a:r>
            <a:br>
              <a:rPr sz="2400"/>
            </a:b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395280" y="134100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12760" indent="-2127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Цель урока: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12760" indent="-2127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Для учителя     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12760" indent="-21276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Организовать контрольно-оценочную деятельность по выявлению точечных затруднений при выполнении техники  через работу в парах и  анализ видеозаписи собственного выполнения технического действия (обязательный норматив  «Сгибание-разгибание рук в упоре лежа»)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12760" indent="-2127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Для учащихся 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12760" indent="-21276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Определить критерии оценивания выполнения  техники норматива ГТО  - «Сгибание-разгибание рук в упоре лежа»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12760" indent="-21276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Заполнить таблицу самооценки  выполнения техники  выполнении сгибания и разгибания рук в упоре лежа («Отжимания») по выработанным критериям, применяя личные гаджеты,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12760" indent="-21276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Выявить затруднения, для устранения ошибок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12760" indent="-2127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Прогнозируемый результат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12760" indent="-21276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Знают контрольные точки техники «Отжимания», безопасного для здоровья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12760" indent="-21276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Фиксируют контрольные точки у партнера при работе в парах  и определяют свои затруднения при просмотре видеозаписи собственного выполнения приседания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12760" indent="-21276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Умеют объективно оценивать, по выработанным критериям, технику «отжимани», безопасного для здоровья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12760" indent="-21276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12760" indent="-212760"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12760" indent="-212760"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12760" indent="-212760"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Таблица самооценки 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85" name="Picture 2" descr=""/>
          <p:cNvPicPr/>
          <p:nvPr/>
        </p:nvPicPr>
        <p:blipFill>
          <a:blip r:embed="rId1"/>
          <a:srcRect l="11109" t="28110" r="32367" b="14444"/>
          <a:stretch/>
        </p:blipFill>
        <p:spPr>
          <a:xfrm>
            <a:off x="826920" y="2060640"/>
            <a:ext cx="7740720" cy="44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87" name="Picture 2" descr=""/>
          <p:cNvPicPr/>
          <p:nvPr/>
        </p:nvPicPr>
        <p:blipFill>
          <a:blip r:embed="rId1"/>
          <a:srcRect l="26163" t="34218" r="25804" b="39724"/>
          <a:stretch/>
        </p:blipFill>
        <p:spPr>
          <a:xfrm>
            <a:off x="250920" y="620640"/>
            <a:ext cx="8497800" cy="259236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2" descr=""/>
          <p:cNvPicPr/>
          <p:nvPr/>
        </p:nvPicPr>
        <p:blipFill>
          <a:blip r:embed="rId2"/>
          <a:srcRect l="24174" t="27470" r="23253" b="34798"/>
          <a:stretch/>
        </p:blipFill>
        <p:spPr>
          <a:xfrm>
            <a:off x="73080" y="2997360"/>
            <a:ext cx="9070920" cy="365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сихологическая устойчивость — это личностная черта, которая во многом определяет, насколько эффективно мы справляемся с проблемами, стрессами и давлением, независимо от обстоятельств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тресс - состояние сильного и длительного психологического напряжения, которое возникает у человека, когда его нервная система получает эмоциональную перегрузку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4617b"/>
                </a:solidFill>
                <a:latin typeface="Calibri"/>
              </a:rPr>
              <a:t>Развитие Физических качеств. Подготовка к сдаче норм ГТО норматив «Поднимание туловища из положения лежа»</a:t>
            </a:r>
            <a:br>
              <a:rPr sz="2800"/>
            </a:b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324000" y="14839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42640" indent="-2426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Цель урока: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Для учителя     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Организовать познавательную  деятельность по выявлению точечных затруднений при выполнении норматива  ГТО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Для учащихся 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Выявить затруднения в выполнении норматива ГТО по силовой подготовке «Поднимание туловища из положения лежа»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Выделить группу упражнений, направленных на подготовку учащихся к выполнению норматива ГТО по силовой подготовке.</a:t>
            </a: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Прогнозируемый результат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В конце урока учащиеся при выполнении различных упражнений: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Выделяют группы мышц, которые задействовано в данном упражнении на станции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На основе работы мышечных групп выделяют 3 вида упражнений, при систематическом выполнении которых смогут подготовиться к результативной сдаче норм ГТО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7 станций. Работа в группах.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94" name="Picture 3" descr=""/>
          <p:cNvPicPr/>
          <p:nvPr/>
        </p:nvPicPr>
        <p:blipFill>
          <a:blip r:embed="rId1"/>
          <a:srcRect l="12185" t="27470" r="21410" b="8548"/>
          <a:stretch/>
        </p:blipFill>
        <p:spPr>
          <a:xfrm>
            <a:off x="250920" y="1700280"/>
            <a:ext cx="850896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96" name="Picture 2" descr=""/>
          <p:cNvPicPr/>
          <p:nvPr/>
        </p:nvPicPr>
        <p:blipFill>
          <a:blip r:embed="rId1"/>
          <a:srcRect l="35244" t="20910" r="36166" b="10192"/>
          <a:stretch/>
        </p:blipFill>
        <p:spPr>
          <a:xfrm>
            <a:off x="2340000" y="333360"/>
            <a:ext cx="4535640" cy="614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ФОРМИРУЮЩЕЕ ОЦЕНИВАНИЕ: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428400" y="1784520"/>
            <a:ext cx="82580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1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Оценивается не только результат, но и процесс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Носит системный характер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Встраивается в личностно-ориентированное обучение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Ориентировано на обучающегося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Отслеживается прогресс каждого обучающегося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Ориентировано на формирование личностных и метапредметных умений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Ebrima"/>
              </a:rPr>
              <a:t>Памятка </a:t>
            </a:r>
            <a:br>
              <a:rPr sz="2800"/>
            </a:b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Ebrima"/>
              </a:rPr>
              <a:t>по применению формирующего оценивания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914400" y="1784160"/>
            <a:ext cx="7772400" cy="47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1. </a:t>
            </a:r>
            <a:r>
              <a:rPr b="1" lang="ru-RU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Оцениваем п</a:t>
            </a:r>
            <a:r>
              <a:rPr b="1" lang="et-EE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роцесс</a:t>
            </a:r>
            <a:r>
              <a:rPr b="1" lang="ru-RU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2. В</a:t>
            </a:r>
            <a:r>
              <a:rPr b="1" lang="et-EE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ыставление отметки и оценивание</a:t>
            </a:r>
            <a:r>
              <a:rPr b="1" lang="ru-RU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 – разные вещи!</a:t>
            </a:r>
            <a:r>
              <a:rPr b="1" lang="et-EE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3. В</a:t>
            </a:r>
            <a:r>
              <a:rPr b="1" lang="et-EE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ыставляя своему ученику отметку  за работу на уроке или в четверти</a:t>
            </a:r>
            <a:r>
              <a:rPr b="1" lang="ru-RU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:</a:t>
            </a:r>
            <a:r>
              <a:rPr b="1" lang="et-EE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оценивае</a:t>
            </a:r>
            <a:r>
              <a:rPr b="1" lang="ru-RU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м</a:t>
            </a:r>
            <a:r>
              <a:rPr b="1" lang="et-EE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 его работу по определенным критериям,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ученик знаком с теми критериями, по которым его оценивают (причем они доступны для его понимания),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ученик </a:t>
            </a:r>
            <a:r>
              <a:rPr b="1" lang="et-EE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в процессе работы сам пытается оценить качество своей работы, сверяясь с этими критериями и получая  комментарии</a:t>
            </a:r>
            <a:r>
              <a:rPr b="1" lang="ru-RU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 учителя</a:t>
            </a:r>
            <a:r>
              <a:rPr b="1" lang="et-EE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ученик </a:t>
            </a:r>
            <a:r>
              <a:rPr b="1" lang="et-EE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видит, где конкретно он пока не достиг нужного результата и корректирует свою деятельность, </a:t>
            </a:r>
            <a:r>
              <a:rPr b="1" lang="ru-RU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т.е. </a:t>
            </a:r>
            <a:r>
              <a:rPr b="1" lang="et-EE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ищ</a:t>
            </a:r>
            <a:r>
              <a:rPr b="1" lang="ru-RU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ет</a:t>
            </a:r>
            <a:r>
              <a:rPr b="1" lang="et-EE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 пути </a:t>
            </a:r>
            <a:r>
              <a:rPr b="1" lang="ru-RU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коррекции </a:t>
            </a:r>
            <a:r>
              <a:rPr b="1" lang="et-EE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выявленны</a:t>
            </a:r>
            <a:r>
              <a:rPr b="1" lang="ru-RU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х</a:t>
            </a:r>
            <a:r>
              <a:rPr b="1" lang="et-EE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 недостатк</a:t>
            </a:r>
            <a:r>
              <a:rPr b="1" lang="ru-RU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ов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Благодарю за внимание!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libri"/>
              </a:rPr>
              <a:t>На психологическом и поведенческом уровнях занятия ФК полезны и могут способствовать: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  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Организации и упорядочиванию активности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риведению действий и мыслей в порядок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 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олучению ощущения контроля над ситуацией, дефицит которого испытывает человек во время стресс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i="1" lang="ru-RU" sz="2600" spc="-1" strike="noStrike">
                <a:solidFill>
                  <a:srgbClr val="000000"/>
                </a:solidFill>
                <a:latin typeface="Constantia"/>
              </a:rPr>
              <a:t>Повышению самооценки и уверенности в себе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Занятия спортом могут приносить радость и удовлетворение от достижения даже небольших результатов              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11280" y="119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 </a:t>
            </a:r>
            <a:br>
              <a:rPr sz="5000"/>
            </a:br>
            <a:br>
              <a:rPr sz="5000"/>
            </a:br>
            <a:br>
              <a:rPr sz="5000"/>
            </a:br>
            <a:br>
              <a:rPr sz="5000"/>
            </a:br>
            <a:r>
              <a:rPr b="1" i="1" lang="ru-RU" sz="3200" spc="-1" strike="noStrike">
                <a:solidFill>
                  <a:srgbClr val="04617b"/>
                </a:solidFill>
                <a:latin typeface="Calibri"/>
              </a:rPr>
              <a:t>Повышение самооценки и уверенности в себе</a:t>
            </a:r>
            <a:br>
              <a:rPr sz="2800"/>
            </a:b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Есть ли  у Вас  в работе  проблемы в оценивании обучающихся на уроках ФК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Если Да, то какие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Как технология оценивания может повлиять на повышение самооценки и уверенность в себе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Есть ли проблемы в работе со старшеклассницами и старшеклассниками? Какаие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1059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облемы оценочной деятельности: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914400" y="1571400"/>
            <a:ext cx="77724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75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Verdana"/>
              </a:rPr>
              <a:t>субъективизм школьной отметки;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75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Verdana"/>
              </a:rPr>
              <a:t>недостаточная разработанность критериев оценивания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75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Verdana"/>
              </a:rPr>
              <a:t>существующая система оценивания отражает </a:t>
            </a:r>
            <a:r>
              <a:rPr b="0" i="1" lang="ru-RU" sz="2700" spc="-1" strike="noStrike">
                <a:solidFill>
                  <a:srgbClr val="ff0000"/>
                </a:solidFill>
                <a:latin typeface="Times New Roman"/>
                <a:ea typeface="Verdana"/>
              </a:rPr>
              <a:t>результат развития физических качеств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Verdana"/>
              </a:rPr>
              <a:t>, а не процесс их усвоения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75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Verdana"/>
              </a:rPr>
              <a:t>При оценивании техники двигательных действий зачастую ставим отметки не выделяя критерии оценивания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75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Verdana"/>
              </a:rPr>
              <a:t>отсутствие в отметке конструктивной информации о том, что именно является причиной низкого или высокого балл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75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4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Функции оценивания:</a:t>
            </a:r>
            <a:br>
              <a:rPr sz="4500"/>
            </a:b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468360" y="2276640"/>
            <a:ext cx="8229600" cy="43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имулирующая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агностическая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рка эффективности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е адекватной самооценки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е мотивации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менения в межличностных отношениях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ff0000"/>
                </a:solidFill>
                <a:latin typeface="Times New Roman"/>
                <a:ea typeface="Ebrima"/>
              </a:rPr>
              <a:t>Зачем мы оцениваем?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Чтобы выяснить, 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достигнуты ли поставленные учебные цели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огут ли быть разные цели у учащихся?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00000" y="1052640"/>
            <a:ext cx="7772400" cy="6429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Формирующее оценивание – это…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178920" y="1557000"/>
            <a:ext cx="87138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751"/>
              </a:spcBef>
              <a:buClr>
                <a:srgbClr val="b5edfd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Формирующее (внутреннее) оценивание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целено на определение индивидуальных достижений каждого учащегося и не предполагает как сравнения результатов, продемонстрированных разными учащимися, так и административных выводов по результатам обучения. 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51"/>
              </a:spcBef>
              <a:buClr>
                <a:srgbClr val="b5edfd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ующим данный вид оценивания называется потому, что оценка ориентирована на конкретного ученика, призвана выявить пробелы в освоении учащимся элемента содержания образования с тем, чтобы восполнить их с максимальной эффективностью.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00000" y="333000"/>
            <a:ext cx="777240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еимущества критериального подхода к оцениванию: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826920" y="2349360"/>
            <a:ext cx="7772400" cy="42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ижение тревожности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ъективность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динство требований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огогранность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авнение достижений учащихся с эталоном;</a:t>
            </a:r>
            <a:br>
              <a:rPr sz="2600"/>
            </a:b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ышение ответственности учащихся за результат своего труда; 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ость самооценки, самоанализа, самоконтроля учащихся. 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12T00:14:57Z</dcterms:created>
  <dc:creator>TATJANA</dc:creator>
  <dc:description/>
  <dc:language>en-US</dc:language>
  <cp:lastModifiedBy>Ljadova-NV</cp:lastModifiedBy>
  <dcterms:modified xsi:type="dcterms:W3CDTF">2019-11-18T06:51:39Z</dcterms:modified>
  <cp:revision>27</cp:revision>
  <dc:subject/>
  <dc:title>Педагогический совет по теме:  «Технология формирующего оценивания»  12.02.2015 г. МОУ СОШ №19  г. Комсомольск -  на - Амуре</dc:title>
</cp:coreProperties>
</file>